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DEB0-6808-43E9-A862-B17D491D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767-03E8-4841-9824-2D2382B4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E40-C0DE-4AF5-A4E1-E3F2D2F4A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494-D308-4955-B768-6D017253C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035F-C39E-4282-9E3F-C1675A4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8A09-174A-4835-A7EC-B0D3E03D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5CD-B28D-4DC8-85A8-5B2CA9EE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97B2-BC43-4932-939C-267B6817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6E6F-44EB-4369-9357-3B001BB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2DF-8C32-470C-8CB7-F25BCFE9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236F-1572-4C5B-801F-79063264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4FC-C650-45D3-93E0-C249237B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10EC-386B-43ED-9086-888AF3B1E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עלות הזנה יאיר </a:t>
            </a: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6600" cy="2362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ביתר איתיאל - שה"מ, משרד החקלאו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שר בר-טל, מכון לקרקע, מים ואיכות הסבי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אילנה ולר, מו"פ ערב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קבצי החזרות לכל טיפו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0"/>
          <p:cNvGrpSpPr/>
          <p:nvPr/>
        </p:nvGrpSpPr>
        <p:grpSpPr>
          <a:xfrm>
            <a:off x="228600" y="1801800"/>
            <a:ext cx="8722080" cy="4890960"/>
            <a:chOff x="228600" y="1801800"/>
            <a:chExt cx="8722080" cy="4890960"/>
          </a:xfrm>
        </p:grpSpPr>
        <p:pic>
          <p:nvPicPr>
            <p:cNvPr id="77" name="Picture 4" descr=""/>
            <p:cNvPicPr/>
            <p:nvPr/>
          </p:nvPicPr>
          <p:blipFill>
            <a:blip r:embed="rId1"/>
            <a:stretch/>
          </p:blipFill>
          <p:spPr>
            <a:xfrm>
              <a:off x="228600" y="1801800"/>
              <a:ext cx="8153280" cy="47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5"/>
            <p:cNvSpPr/>
            <p:nvPr/>
          </p:nvSpPr>
          <p:spPr>
            <a:xfrm>
              <a:off x="956880" y="6019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חול ציפו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6"/>
            <p:cNvSpPr/>
            <p:nvPr/>
          </p:nvSpPr>
          <p:spPr>
            <a:xfrm>
              <a:off x="2518200" y="5943600"/>
              <a:ext cx="133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חול תעל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7"/>
            <p:cNvSpPr/>
            <p:nvPr/>
          </p:nvSpPr>
          <p:spPr>
            <a:xfrm>
              <a:off x="4110840" y="5943600"/>
              <a:ext cx="135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טוף תעל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"/>
            <p:cNvSpPr/>
            <p:nvPr/>
          </p:nvSpPr>
          <p:spPr>
            <a:xfrm>
              <a:off x="5715000" y="5867280"/>
              <a:ext cx="146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 קרקע חמד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9"/>
            <p:cNvSpPr/>
            <p:nvPr/>
          </p:nvSpPr>
          <p:spPr>
            <a:xfrm>
              <a:off x="7221600" y="58672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פרלייט תעל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מאפייני החמד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0" y="2463840"/>
            <a:ext cx="89154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093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חשיפת שורשי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חשיפת שורשים בסיו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29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457200" y="2057400"/>
            <a:ext cx="8359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הנוהג הקובל היום על ידי אנשי קרן הקיימת המבצעים את  הכשרת הקרקע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הינו : יישור החלקה באמצעות מוטור גריידר, פתיחת התשתית  בתנועת שתי וערב באמצעות רוטר החודר לעומק של כ-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8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ס"מ, ופריסת ציפוי חול לעומק של 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4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ס"מ. עלות יישור החלקה נאמד ב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350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שקל לדונם ועלות ציפוי החול  ב-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10,00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 שקל לדונם. עם השנים, מקורות החול בערבה התדלדלו, ועל כן נוצר הצורך  לאתר תשתיות גידול חלופיות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גידול בתשתית של תעלות הזנה עם טוף מיושם  מזה מספר שנים בהיקף מסחרי על ידי  מספר מצומצם של חקלאים מסיבות של קרקע בעייתית או קשיים  טכניים בעיבודי קרקע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מטרת הניסוי המתואר להלן הייתה לבחון על פני מספר שנים את תגוב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  <a:cs typeface="David"/>
              </a:rPr>
              <a:t>צמחי הפלפל  לגידול  בתעלות הזנה, כחלופה לשיטת הציפוי המקובלת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3352680" y="650880"/>
            <a:ext cx="3597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000000"/>
                </a:solidFill>
                <a:latin typeface="Times New Roman"/>
              </a:rPr>
              <a:t>רק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304920" y="380880"/>
            <a:ext cx="8534160" cy="76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פרלייט-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ימים אחרי מת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ליטר לדונם אדיגן. השורשים עדיין אוחזים בפרליי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4933800" y="3705120"/>
            <a:ext cx="42102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457200" y="380880"/>
            <a:ext cx="8458200" cy="762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טוף-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ימים אחרי מתן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ליטר אדיגן לדונם. השורשים יוצאים נקיים בניעור קט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יטות- הכנת הקרק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</a:rPr>
              <a:t>·  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פלפל מהזן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7157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נשתל בתחנת יאיר בבית רשת מכוסה ברשת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5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מש ב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/9/04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         </a:t>
            </a:r>
            <a:r>
              <a:rPr b="1" lang="he-IL" sz="2400" spc="-1" strike="noStrike" u="sng">
                <a:solidFill>
                  <a:srgbClr val="000000"/>
                </a:solidFill>
                <a:uFillTx/>
                <a:latin typeface="Times New Roman"/>
                <a:cs typeface="David"/>
              </a:rPr>
              <a:t>חלקת החמדה הוכשרה בדרך הבאה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א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מעבר שתי וערב עם משתת של די-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9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לעומק ש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8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ס"מ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ב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סימון מרכזי ערוגות כ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6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ס"מ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ג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פתיחת תעלות  בצורת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V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לעומק ש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2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ס"מ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ד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פריסת יריעת פלסטיק ע"פ כלל השטח וחרוץ היריעה במרכז התעלה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פיזור קומפוסט בתחתית התעלות בשיעור של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ליטר\מ"ר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ו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כנסת המצעים לתעלות :טוף,חול,פרלייט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ז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שטיפת קרקע בשיעור ש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20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מ"מ. תהליך השטיפה לווה בבדיקות מי משאב וקרקע(איור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ח.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רוויה בדשן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MKP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 באמצעות הטפטוף בשיעור ש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25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גרם\מ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3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, ובכמות של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8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ק"ג\דונ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טיפול החמדה קיבל את המתכון המתואר לעיל למעט אופן יישום הקומפוסט. בטיפול זה פוזר הקומפוסט מעל הערוגה והוצנע באמצעות מתחח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אור מבנה התעל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7"/>
          <p:cNvGrpSpPr/>
          <p:nvPr/>
        </p:nvGrpSpPr>
        <p:grpSpPr>
          <a:xfrm>
            <a:off x="3048120" y="2362320"/>
            <a:ext cx="3839760" cy="2590560"/>
            <a:chOff x="3048120" y="2362320"/>
            <a:chExt cx="3839760" cy="2590560"/>
          </a:xfrm>
        </p:grpSpPr>
        <p:sp>
          <p:nvSpPr>
            <p:cNvPr id="49" name="Line 5"/>
            <p:cNvSpPr/>
            <p:nvPr/>
          </p:nvSpPr>
          <p:spPr>
            <a:xfrm>
              <a:off x="6705720" y="289548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6"/>
            <p:cNvSpPr/>
            <p:nvPr/>
          </p:nvSpPr>
          <p:spPr>
            <a:xfrm>
              <a:off x="6705720" y="45720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6402240" y="4038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3048120" y="2666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>
              <a:off x="5409720" y="26668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649760" y="2362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13"/>
            <p:cNvGrpSpPr/>
            <p:nvPr/>
          </p:nvGrpSpPr>
          <p:grpSpPr>
            <a:xfrm>
              <a:off x="3048120" y="2742840"/>
              <a:ext cx="3581280" cy="2133720"/>
              <a:chOff x="3048120" y="2742840"/>
              <a:chExt cx="3581280" cy="2133720"/>
            </a:xfrm>
          </p:grpSpPr>
          <p:sp>
            <p:nvSpPr>
              <p:cNvPr id="56" name="AutoShape 11"/>
              <p:cNvSpPr/>
              <p:nvPr/>
            </p:nvSpPr>
            <p:spPr>
              <a:xfrm rot="10800000">
                <a:off x="3048120" y="2742480"/>
                <a:ext cx="3581280" cy="2133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2"/>
              <p:cNvSpPr/>
              <p:nvPr/>
            </p:nvSpPr>
            <p:spPr>
              <a:xfrm rot="10800000">
                <a:off x="4266720" y="4190760"/>
                <a:ext cx="1143000" cy="685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Group 16"/>
          <p:cNvGrpSpPr/>
          <p:nvPr/>
        </p:nvGrpSpPr>
        <p:grpSpPr>
          <a:xfrm>
            <a:off x="3048120" y="2666880"/>
            <a:ext cx="3581280" cy="1219320"/>
            <a:chOff x="3048120" y="2666880"/>
            <a:chExt cx="3581280" cy="1219320"/>
          </a:xfrm>
        </p:grpSpPr>
        <p:sp>
          <p:nvSpPr>
            <p:cNvPr id="59" name="Line 14"/>
            <p:cNvSpPr/>
            <p:nvPr/>
          </p:nvSpPr>
          <p:spPr>
            <a:xfrm>
              <a:off x="3048120" y="2666880"/>
              <a:ext cx="99036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 flipH="1">
              <a:off x="5715000" y="2743200"/>
              <a:ext cx="9144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8"/>
          <p:cNvSpPr/>
          <p:nvPr/>
        </p:nvSpPr>
        <p:spPr>
          <a:xfrm>
            <a:off x="2595960" y="5638680"/>
            <a:ext cx="53395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נפח המצע=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ליטר למטר רץ=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ליטר\מ"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יט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טוף מסוג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0-8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,ופרלייט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 משמשים  כמצעי גידול במצעים מנותקי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דישון התבצע באמצעות הזרקת דשן מור: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8-2-4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(דשנים וחומרים). כל טיפול(למעט הפרלייט) היה עצמאי ומדיניות ההשקיה נקבעה בהתאם להתנהגות הגידול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עקב מגבלות טכניות חלקות הציפוי מוקמו במפתח נפרד. טיפולי התעלות הוצבו  בתבנית של בלוקים באקראי. חלקת הפרלייט כללה ערוגה אחת בלבד (איור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6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בנספחים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000" spc="-1" strike="noStrike">
                <a:solidFill>
                  <a:srgbClr val="000000"/>
                </a:solidFill>
                <a:latin typeface="Times New Roman"/>
                <a:cs typeface="David"/>
              </a:rPr>
              <a:t>הקטיפים החלו  ב-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7/12/03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נמשכו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10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ימים והסתיימו ב-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7/4/04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. בסה"כ נערכו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2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קטיפים. הפירות מוינו לאיכות יצוא ואיכות שוק מקומי. הפרי הראוי ליצוא נבדק לחיי מדף למשך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17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ימים בטמפרטורה של  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7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מעלות  ב-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95%</a:t>
            </a:r>
            <a:r>
              <a:rPr b="0" lang="he-IL" sz="2000" spc="-1" strike="noStrike">
                <a:solidFill>
                  <a:srgbClr val="000000"/>
                </a:solidFill>
                <a:latin typeface="Times New Roman"/>
                <a:ea typeface="David"/>
              </a:rPr>
              <a:t>  לחות ועוד שלושה ימים בטמפרטורת החדר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שטיפת החמדה בטיפטו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8" descr=""/>
          <p:cNvPicPr/>
          <p:nvPr/>
        </p:nvPicPr>
        <p:blipFill>
          <a:blip r:embed="rId1"/>
          <a:stretch/>
        </p:blipFill>
        <p:spPr>
          <a:xfrm>
            <a:off x="533520" y="1965240"/>
            <a:ext cx="7467480" cy="4121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29"/>
          <p:cNvSpPr/>
          <p:nvPr/>
        </p:nvSpPr>
        <p:spPr>
          <a:xfrm>
            <a:off x="4128840" y="6172200"/>
            <a:ext cx="45820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מי משאב ודיגום קרקע מעומק 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he-IL" sz="2400" spc="-1" strike="noStrike">
                <a:solidFill>
                  <a:srgbClr val="000000"/>
                </a:solidFill>
                <a:latin typeface="Times New Roman"/>
              </a:rPr>
              <a:t> ס"מ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276720"/>
            <a:ext cx="7620120" cy="16761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2900" spc="-1" strike="noStrike">
                <a:solidFill>
                  <a:srgbClr val="000000"/>
                </a:solidFill>
                <a:latin typeface="Times New Roman"/>
              </a:rPr>
              <a:t>תוצאות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2666880" cy="243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תוצאות יבול הפירות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א.יבול כולל וליצוא</a:t>
            </a:r>
            <a:br>
              <a:rPr sz="2800"/>
            </a:br>
            <a:r>
              <a:rPr b="0" lang="he-IL" sz="2800" spc="-1" strike="noStrike">
                <a:solidFill>
                  <a:srgbClr val="000000"/>
                </a:solidFill>
                <a:latin typeface="Times New Roman"/>
              </a:rPr>
              <a:t>ב. יבול כולל מצטב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1029"/>
          <p:cNvGrpSpPr/>
          <p:nvPr/>
        </p:nvGrpSpPr>
        <p:grpSpPr>
          <a:xfrm>
            <a:off x="2895480" y="0"/>
            <a:ext cx="6019920" cy="6858000"/>
            <a:chOff x="2895480" y="0"/>
            <a:chExt cx="6019920" cy="6858000"/>
          </a:xfrm>
        </p:grpSpPr>
        <p:pic>
          <p:nvPicPr>
            <p:cNvPr id="70" name="Picture 1030" descr=""/>
            <p:cNvPicPr/>
            <p:nvPr/>
          </p:nvPicPr>
          <p:blipFill>
            <a:blip r:embed="rId1"/>
            <a:stretch/>
          </p:blipFill>
          <p:spPr>
            <a:xfrm>
              <a:off x="2895480" y="0"/>
              <a:ext cx="60199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031"/>
            <p:cNvSpPr/>
            <p:nvPr/>
          </p:nvSpPr>
          <p:spPr>
            <a:xfrm>
              <a:off x="8019000" y="583560"/>
              <a:ext cx="374760" cy="43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Times New Roman (Hebrew)"/>
                </a:rPr>
                <a:t>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032"/>
            <p:cNvSpPr/>
            <p:nvPr/>
          </p:nvSpPr>
          <p:spPr>
            <a:xfrm>
              <a:off x="8019000" y="4961160"/>
              <a:ext cx="374760" cy="43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Miriam"/>
                  <a:cs typeface="Miriam"/>
                </a:rPr>
                <a:t>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400" spc="-1" strike="noStrike">
                <a:solidFill>
                  <a:srgbClr val="000000"/>
                </a:solidFill>
                <a:latin typeface="Times New Roman"/>
              </a:rPr>
              <a:t>תוצא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0" y="2003400"/>
            <a:ext cx="891540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21:13:34Z</dcterms:created>
  <dc:creator>eviatar</dc:creator>
  <dc:description/>
  <dc:language>en-US</dc:language>
  <cp:lastModifiedBy>yoram</cp:lastModifiedBy>
  <dcterms:modified xsi:type="dcterms:W3CDTF">2016-09-06T11:25:20Z</dcterms:modified>
  <cp:revision>11</cp:revision>
  <dc:subject/>
  <dc:title>תעלות הזנה יאיר 2004</dc:title>
</cp:coreProperties>
</file>